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D17-CE39-43EA-B48B-E978C9E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3E7-BB04-48FA-8FE6-D37D32DB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62B-C0D7-46AF-9AF2-E4B514C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282-584D-471F-848F-92D89DF3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471-3409-470C-90C2-6602E41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7A6-2A32-435A-BFA1-7735D51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A3D-8C5D-40B1-AA18-A22C77E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2F9-C9B7-4981-8F44-296DB01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2C6-D789-4EA5-9194-1C0B4C0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D29-4227-41B6-8437-E3E53DD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854-BA55-441F-9C3F-507F665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CC7-A438-4804-BD41-F8134DC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45C-C92E-4C03-BCDE-E01DF1A4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erian Ziggu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ssyrian word “zigguratu”= he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erved as a center for commercial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d stor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ading of go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eb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n example of a Sumerian Ziggurat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4267080" cy="29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495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ppear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the largest and most important building loca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c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each Sumerian city.  Sumerians believed it wa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ity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ron g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uilt on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l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ra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gned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inate the horiz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so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protection from flo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Most temples were built on the remnants of older temples that were destroyed or expanded with the city’s population or w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961240" cy="647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add on to the temple with numerous stairways leading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lev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*The Ziggurat of Ur was on a platform 200’ long, 150’ wide, and rose 70 feet above the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572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rly Sumer it was made of rectangula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d bri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 they didn’t have stone or ti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decorat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y co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were dipped into red, black or buff paint and then inserted into the plaster to fo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gzags or geometric desig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ep ho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square or rectangular shaped holes placed at different levels in the temple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rain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0" y="1523880"/>
            <a:ext cx="8380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2971800"/>
            <a:ext cx="2286000" cy="520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p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467120" y="228564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3352680" cy="520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irs to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066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066680"/>
            <a:ext cx="1523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990720"/>
            <a:ext cx="26672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962520"/>
            <a:ext cx="2286000" cy="520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d B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819520"/>
            <a:ext cx="8384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3429000"/>
            <a:ext cx="10670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26672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se of the Te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purpose of the ziggurat w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a place of respect and worship for the g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umerians believ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ind obed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 gif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crif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give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e every ziggurat was a rectangula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al shr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l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e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the god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ront of the statue was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mud brick table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erings to the g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517680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8065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66880" y="1066680"/>
            <a:ext cx="914400" cy="838440"/>
          </a:xfrm>
          <a:prstGeom prst="ellipse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685800"/>
            <a:ext cx="1219320" cy="53352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28600"/>
            <a:ext cx="12952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C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715000"/>
            <a:ext cx="30481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atu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highest story, visited only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st important prie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se wer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d w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d regular me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fish, mutton, honey, beer and c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unicated his wis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pri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eived sacrif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mple supplied emplo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ies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usicians, singer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ierod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temple slaves”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2:39:18Z</dcterms:created>
  <dc:creator>Sarasota Schools</dc:creator>
  <dc:description/>
  <dc:language>en-US</dc:language>
  <cp:lastModifiedBy>Sarasota Schools</cp:lastModifiedBy>
  <dcterms:modified xsi:type="dcterms:W3CDTF">2007-10-04T15:17:29Z</dcterms:modified>
  <cp:revision>8</cp:revision>
  <dc:subject/>
  <dc:title>Sumerian Ziggurats</dc:title>
</cp:coreProperties>
</file>